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95309-9D46-4390-96EC-6582C1F7A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F4AB-F794-4DF0-8571-F0E642BE3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EA5EE-842B-4779-8B1F-CFEDA5F51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89E89-280F-4D08-A6DF-A3D6F11F7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9ADAB-D341-4E8D-9DED-C8AEB7DF7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C9F56-8363-431A-84E1-588E50815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79444-11A3-4EF8-BD68-827D3DA8B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AD82-6E66-4E90-8C9A-E7AB94817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4BB97-BF84-4162-AB67-167A3D335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E3882-5BE0-43D0-BF58-3AD484274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76C9A-9B46-4BC1-A997-C3E1B1805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A56CC-15BB-4F17-B8AE-9CC91420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04461-D2C1-4641-AD51-DB0E36165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88D3F-66C2-42A4-AC24-EAD43D44D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CDB25-0EE8-4BAE-9080-3A0C4E248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50FBB-4733-44A2-8432-1000FDC32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9C275-0A7F-49FB-8EFC-F3EA50899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7C4A6C9-5E80-445F-9465-10ECDE7B7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34854E-3C20-47CA-887B-E9A3E5ED1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EFD009-CEB8-4982-9377-FAF884B72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19ED52-3BFF-44C8-BD04-FE76FE686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079860-73A5-4EEC-B6B6-B1A6CC8A5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3883-3ED6-4A2E-A5A5-2F4ACB970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A4CC8D-793E-43EA-828C-28AD1C835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EADC02-CFA8-4032-999A-C31EAC585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5AB2A1-887E-4A28-A155-2CAB3491E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1E70AF-EB2F-41F5-8D5C-1FA738EDD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3F7EE5-72A3-4468-8BF2-A5E859A9A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57FDC7-F694-46D1-8F98-EFFC139B40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3B028A-9CA5-469A-B41F-9AEA893E4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9EE05-7210-4179-994B-7AA3F2F1C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E6064-67ED-40DD-A6D8-467CE0DE6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6DAFB-A16F-41CE-BB92-C8B2B7631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5CED-886D-4C47-A7C0-B4DD181B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B2B4E-EDE4-4D29-A408-5A6BDD0FF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E56DDB-3034-4812-8290-5B132A088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34186-497B-468D-B63F-9078937B3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E5F6D-0827-4619-B0FC-22ACFA10C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69349-D411-4B42-B19D-8DDCC08CE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E5A9C-4A97-4ADA-BDC7-31CCD225F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AA72F-7363-4AE6-B308-1A7AF1DD8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414945-9566-4B83-A081-BCAE22CD8A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4E808-254C-48C1-B290-FE0137BC4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14DCCF-0E29-49C5-B9D6-FFBA3761EC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8FF8-9E87-4838-8215-EFC3875FB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8773E8-5C0A-482D-BDF1-5DC26A6201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2C23C5-6B89-4CFA-8129-4EC3AD35D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F7D38C-74AA-41B2-9266-D65C5F46B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0877C5-A2D2-4934-A639-845A06D2A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D46B6E-D608-4859-8928-523E0D6DC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F49FCE-54D2-4B7E-B7FF-FBAD38CBD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8A87D7-9505-4DD1-BA3E-726530C89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D0C718-7465-4EC6-9BE6-BE2D471B0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0D6B66-DDB4-48F3-85B6-9F198EC28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DA1DF75-6F74-4062-A9F4-F54BA121BB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6E3E-2DD6-4B2F-9658-F618E99E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662FC8-E63F-4ED6-96A0-78B1A5D38E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B0E62E4-4C43-4FBE-B173-78B2401F24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638E48-66EE-47B6-9E59-044354F3B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21710E-26E0-439D-B3B7-F8C7C0900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61CD28-1461-4772-B502-D86029B5C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A294142-967A-4605-AE00-8884339F2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B5AE3A-F620-4DDB-93D4-A3A2FBA9E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7EEF2A-A6EC-4629-A7FD-2B7FCDA5E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68549D-CED6-437F-AF85-96C5EB372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F6D434-7DC3-40F4-AF7A-72DF038FB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780A8-7D4A-42F9-8731-1A1AB6DA1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855B15-C02A-4445-AF59-03A1D92A28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35EC8F4-2689-4FF4-9262-ACE361C468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F464011-77C9-4F9A-B307-EB4311CE2E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37AFDD-A10E-4462-9DC5-07B82827A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27892E-3ECA-4D3F-89B5-88DB742C8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E4417C-CC2C-4BF1-B2EF-DE9FBA6AA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373B52-A9BB-481E-AF23-DD22ED3AC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D11A76-CCFF-4271-A647-402DAC04D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2BB989-284A-4F4F-BB89-A973612DE5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155581-82EE-4EE8-9EFA-1A4CA0E05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1B1A-43AF-48CB-9716-1BB613F09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13D008-9111-4672-937C-03CBBE130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7ACB79-9739-4F1F-B6C4-C784D6CCF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575857-ECB3-4633-BD84-7CDDF6C92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555734-2493-4181-8D14-E1714AEBA4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423D9F-56D7-4EBB-9C9F-0AAC9EF4E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9FA4-241C-4F9F-A5A9-7ADFA72E3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D011-BFD2-4855-B6A9-637116821BF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e6b1ab">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efcfcc">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efcfc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7e9e7">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e6b1a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7e9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e6b1a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e6b1ab">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8DDE-0286-44B5-9F0D-AF683D30780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601A-9C1B-4F75-8FFD-A89F0805D69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e6b1ab">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efcfcc">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efcfc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7e9e7">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e6b1a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7e9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e6b1a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e6b1ab">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5dc"/>
                </a:solidFill>
                <a:latin typeface="Century Schoolbook"/>
              </a:rPr>
              <a:t>Click to edit the title text format</a:t>
            </a:r>
            <a:endParaRPr b="0" lang="en-US" sz="3000" spc="-1" strike="noStrike">
              <a:solidFill>
                <a:srgbClr val="e9e5dc"/>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9e5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e5dc"/>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041D-7FC5-493A-82CE-3990BF35BDE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840A-4A9D-45FF-BA3A-F2B63AFD0D8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B4AC-2133-45B5-975C-FC9B0203D5F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5D1B-FDD1-4582-814D-09B63144CFB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nacion.com.ar/nota.asp?nota_id=1092759"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71680" y="7855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7f7f7f"/>
                </a:solidFill>
                <a:latin typeface="Century Schoolbook"/>
              </a:rPr>
              <a:t>TRABAJO DE TISG</a:t>
            </a:r>
            <a:br>
              <a:rPr sz="2700"/>
            </a:br>
            <a:endParaRPr b="0" lang="en-US" sz="6000" spc="-1" strike="noStrike">
              <a:solidFill>
                <a:srgbClr val="696464"/>
              </a:solidFill>
              <a:latin typeface="Century Schoolbook"/>
            </a:endParaRPr>
          </a:p>
        </p:txBody>
      </p:sp>
      <p:sp>
        <p:nvSpPr>
          <p:cNvPr id="352" name="PlaceHolder 2"/>
          <p:cNvSpPr>
            <a:spLocks noGrp="1"/>
          </p:cNvSpPr>
          <p:nvPr>
            <p:ph type="subTitle"/>
          </p:nvPr>
        </p:nvSpPr>
        <p:spPr>
          <a:xfrm>
            <a:off x="1371600" y="2642760"/>
            <a:ext cx="6400800" cy="2995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c6b4d"/>
                </a:solidFill>
                <a:latin typeface="Century Schoolbook"/>
              </a:rPr>
              <a:t>Profesora: </a:t>
            </a:r>
            <a:r>
              <a:rPr b="1" lang="es-ES" sz="1800" spc="-1" strike="noStrike">
                <a:solidFill>
                  <a:srgbClr val="6e6263"/>
                </a:solidFill>
                <a:latin typeface="Century Schoolbook"/>
              </a:rPr>
              <a:t>Estrella Córdob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e6263"/>
                </a:solidFill>
                <a:latin typeface="Century Schoolbook"/>
              </a:rPr>
              <a:t>         </a:t>
            </a:r>
            <a:r>
              <a:rPr b="1" lang="es-ES" sz="1800" spc="-1" strike="noStrike">
                <a:solidFill>
                  <a:srgbClr val="6e6263"/>
                </a:solidFill>
                <a:latin typeface="Century Schoolbook"/>
              </a:rPr>
              <a:t>Alumna: </a:t>
            </a:r>
            <a:r>
              <a:rPr b="1" i="1" lang="es-ES" sz="1800" spc="-1" strike="noStrike">
                <a:solidFill>
                  <a:srgbClr val="7c6b4d"/>
                </a:solidFill>
                <a:latin typeface="Century Schoolbook"/>
              </a:rPr>
              <a:t>Pamela Ari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c6b4d"/>
                </a:solidFill>
                <a:latin typeface="Century Schoolbook"/>
              </a:rPr>
              <a:t>               </a:t>
            </a:r>
            <a:r>
              <a:rPr b="1" i="1" lang="es-ES" sz="1800" spc="-1" strike="noStrike">
                <a:solidFill>
                  <a:srgbClr val="7c6b4d"/>
                </a:solidFill>
                <a:latin typeface="Century Schoolbook"/>
              </a:rPr>
              <a:t>Fecha:  </a:t>
            </a:r>
            <a:r>
              <a:rPr b="1" lang="es-ES" sz="1800" spc="-1" strike="noStrike">
                <a:solidFill>
                  <a:srgbClr val="6e6263"/>
                </a:solidFill>
                <a:latin typeface="Century Schoolbook"/>
              </a:rPr>
              <a:t>2 de marzo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e6263"/>
                </a:solidFill>
                <a:latin typeface="Century Schoolbook"/>
              </a:rPr>
              <a:t>                               </a:t>
            </a:r>
            <a:r>
              <a:rPr b="1" lang="es-ES" sz="1800" spc="-1" strike="noStrike">
                <a:solidFill>
                  <a:srgbClr val="6e6263"/>
                </a:solidFill>
                <a:latin typeface="Century Schoolbook"/>
              </a:rPr>
              <a:t>BI</a:t>
            </a:r>
            <a:r>
              <a:rPr b="1" lang="es-ES" sz="1800" spc="-1" strike="noStrike">
                <a:solidFill>
                  <a:srgbClr val="696464"/>
                </a:solidFill>
                <a:latin typeface="Century Schoolbook"/>
              </a:rPr>
              <a:t> – </a:t>
            </a:r>
            <a:r>
              <a:rPr b="1" i="1" lang="es-ES" sz="1800" spc="-1" strike="noStrike">
                <a:solidFill>
                  <a:srgbClr val="7c6b4d"/>
                </a:solidFill>
                <a:latin typeface="Century Schoolbook"/>
              </a:rPr>
              <a:t>2009</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3" name="Picture 1" descr="C:\Documents and Settings\Familia Arias Vargas\Escritorio\banda_ancha.jpg"/>
          <p:cNvPicPr/>
          <p:nvPr/>
        </p:nvPicPr>
        <p:blipFill>
          <a:blip r:embed="rId1"/>
          <a:stretch/>
        </p:blipFill>
        <p:spPr>
          <a:xfrm>
            <a:off x="5500800" y="3000240"/>
            <a:ext cx="2333520" cy="161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3"/>
          <p:cNvSpPr/>
          <p:nvPr/>
        </p:nvSpPr>
        <p:spPr>
          <a:xfrm>
            <a:off x="428760" y="929880"/>
            <a:ext cx="61434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400" spc="-1" strike="noStrike">
                <a:solidFill>
                  <a:srgbClr val="6e6263"/>
                </a:solidFill>
                <a:latin typeface="Century Schoolbook"/>
                <a:ea typeface="Times New Roman"/>
              </a:rPr>
              <a:t>¿En que afecta a los involucrados?</a:t>
            </a:r>
            <a:endParaRPr b="0" lang="en-US" sz="2400" spc="-1" strike="noStrike">
              <a:solidFill>
                <a:srgbClr val="000000"/>
              </a:solidFill>
              <a:latin typeface="Century Schoolbook"/>
            </a:endParaRPr>
          </a:p>
        </p:txBody>
      </p:sp>
      <p:sp>
        <p:nvSpPr>
          <p:cNvPr id="386" name="Rectangle 1"/>
          <p:cNvSpPr/>
          <p:nvPr/>
        </p:nvSpPr>
        <p:spPr>
          <a:xfrm>
            <a:off x="1071720" y="1940040"/>
            <a:ext cx="3143160" cy="253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Pérdida </a:t>
            </a:r>
            <a:endParaRPr b="0" lang="en-US" sz="4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de información </a:t>
            </a:r>
            <a:endParaRPr b="0" lang="en-US" sz="4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importante</a:t>
            </a:r>
            <a:endParaRPr b="0" lang="en-US" sz="4000" spc="-1" strike="noStrike">
              <a:solidFill>
                <a:srgbClr val="000000"/>
              </a:solidFill>
              <a:latin typeface="Century Schoolbook"/>
            </a:endParaRPr>
          </a:p>
        </p:txBody>
      </p:sp>
      <p:pic>
        <p:nvPicPr>
          <p:cNvPr id="387" name="Picture 2" descr="C:\Documents and Settings\Familia Arias Vargas\Escritorio\virus.gif"/>
          <p:cNvPicPr/>
          <p:nvPr/>
        </p:nvPicPr>
        <p:blipFill>
          <a:blip r:embed="rId1"/>
          <a:stretch/>
        </p:blipFill>
        <p:spPr>
          <a:xfrm>
            <a:off x="4857840" y="2857680"/>
            <a:ext cx="277164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4 Rectángulo"/>
          <p:cNvSpPr/>
          <p:nvPr/>
        </p:nvSpPr>
        <p:spPr>
          <a:xfrm>
            <a:off x="785880" y="57168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5" name="5 Rectángulo"/>
          <p:cNvSpPr/>
          <p:nvPr/>
        </p:nvSpPr>
        <p:spPr>
          <a:xfrm>
            <a:off x="500040" y="1285920"/>
            <a:ext cx="578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Century Schoolbook"/>
              </a:rPr>
              <a:t>El gusano, llamado Conficker, tiene múltiples vías de propagación y habría afectado ya a más de 10 millones de computadoras</a:t>
            </a:r>
            <a:endParaRPr b="0" lang="en-US" sz="1800" spc="-1" strike="noStrike">
              <a:solidFill>
                <a:srgbClr val="000000"/>
              </a:solidFill>
              <a:latin typeface="Century Schoolbook"/>
            </a:endParaRPr>
          </a:p>
        </p:txBody>
      </p:sp>
      <p:sp>
        <p:nvSpPr>
          <p:cNvPr id="356" name="9 Rectángulo"/>
          <p:cNvSpPr/>
          <p:nvPr/>
        </p:nvSpPr>
        <p:spPr>
          <a:xfrm>
            <a:off x="5253480" y="428760"/>
            <a:ext cx="32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Century Schoolbook"/>
              </a:rPr>
              <a:t>Viernes 23 de enero de 2009</a:t>
            </a:r>
            <a:endParaRPr b="0" lang="en-US" sz="1800" spc="-1" strike="noStrike">
              <a:solidFill>
                <a:srgbClr val="000000"/>
              </a:solidFill>
              <a:latin typeface="Century Schoolbook"/>
            </a:endParaRPr>
          </a:p>
        </p:txBody>
      </p:sp>
      <p:sp>
        <p:nvSpPr>
          <p:cNvPr id="357" name="6 Rectángulo"/>
          <p:cNvSpPr/>
          <p:nvPr/>
        </p:nvSpPr>
        <p:spPr>
          <a:xfrm>
            <a:off x="500040" y="2286000"/>
            <a:ext cx="77868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Hacía cuatro años que ningún virus informático lograba infectar tal cantidad de computadoras como Conficker, también conocido como Downadup, un gusano que ha hecho saltar las alertas de los observatorios de seguridad digital de medio mundo. Este virus ha conseguido colarse en más de 10 millones de PC, según los últimos datos de la compañía F-Secure, una virulencia que no se recordaba desde los tiempos del virus Sasser o Blaster en 2005. </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El Instituto Nacional de Tecnologías de la Comunicación (Inteco) de España calcula que en ese país hay alrededor de 7.500 equipos que pueden estar expuestos a la infección, sólo a través de Internet. "Por lo general en Inteco enviamos una alerta de este tipo una vez al año, pero en 2009 ha llegado muy pronto", comenta Marcos Gómez, subdirector de e-Confianza de Inteco, que no duda en clasificar a Conficker entre la lista de virus más dañinos. </a:t>
            </a:r>
            <a:endParaRPr b="0" lang="en-US" sz="1800" spc="-1" strike="noStrike">
              <a:solidFill>
                <a:srgbClr val="000000"/>
              </a:solidFill>
              <a:latin typeface="Century Schoolbook"/>
            </a:endParaRPr>
          </a:p>
        </p:txBody>
      </p:sp>
      <p:pic>
        <p:nvPicPr>
          <p:cNvPr id="358" name="Picture 2" descr="C:\Documents and Settings\Familia Arias Vargas\Escritorio\951364.jpg"/>
          <p:cNvPicPr/>
          <p:nvPr/>
        </p:nvPicPr>
        <p:blipFill>
          <a:blip r:embed="rId1"/>
          <a:stretch/>
        </p:blipFill>
        <p:spPr>
          <a:xfrm>
            <a:off x="6357960" y="1000080"/>
            <a:ext cx="1785960" cy="119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Documents and Settings\Familia Arias Vargas\Escritorio\ict10virus.gif"/>
          <p:cNvPicPr/>
          <p:nvPr/>
        </p:nvPicPr>
        <p:blipFill>
          <a:blip r:embed="rId1"/>
          <a:stretch/>
        </p:blipFill>
        <p:spPr>
          <a:xfrm>
            <a:off x="214200" y="1000080"/>
            <a:ext cx="2000520" cy="2000160"/>
          </a:xfrm>
          <a:prstGeom prst="rect">
            <a:avLst/>
          </a:prstGeom>
          <a:ln w="0">
            <a:noFill/>
          </a:ln>
          <a:effectLst>
            <a:outerShdw dist="139498" dir="2700000" blurRad="0" rotWithShape="0">
              <a:srgbClr val="333333">
                <a:alpha val="65000"/>
              </a:srgbClr>
            </a:outerShdw>
          </a:effectLst>
        </p:spPr>
      </p:pic>
      <p:sp>
        <p:nvSpPr>
          <p:cNvPr id="360" name="2 Rectángulo"/>
          <p:cNvSpPr/>
          <p:nvPr/>
        </p:nvSpPr>
        <p:spPr>
          <a:xfrm>
            <a:off x="642960" y="1643040"/>
            <a:ext cx="81439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El problema de Conficker es que utiliza tres vías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para propagarse. La primera es una falla de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seguridad de Windows, que los técnicos denominan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vulnerabilidad El virus es capaz de colarse en las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computadoras usando "puerta abierta" del sistema operativo de Microsoft para inutilizar ciertas funcionalidades de la máquina. En un  primer momento,  el usuario no suele notar nada (quizás detecte cierta lentitud en su PC) pero su equipo ya se convirtió en un foco de infección.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buena noticia es que Microsoft publicó el parche que corrige este fallo de seguridad en octubre de 2008. "Pensamos que el nivel de ataque no debe ser muy alto pues Windows tiene un sistema de actualizaciones a través de Internet que instala automáticamente todas las correcciones de seguridad. </a:t>
            </a:r>
            <a:endParaRPr b="0" lang="en-US" sz="2000" spc="-1" strike="noStrike">
              <a:solidFill>
                <a:srgbClr val="000000"/>
              </a:solidFill>
              <a:latin typeface="Century Schoolbook"/>
            </a:endParaRPr>
          </a:p>
        </p:txBody>
      </p:sp>
      <p:sp>
        <p:nvSpPr>
          <p:cNvPr id="361" name="3 Rectángulo"/>
          <p:cNvSpPr/>
          <p:nvPr/>
        </p:nvSpPr>
        <p:spPr>
          <a:xfrm>
            <a:off x="2428920" y="214200"/>
            <a:ext cx="635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1 Rectángulo"/>
          <p:cNvSpPr/>
          <p:nvPr/>
        </p:nvSpPr>
        <p:spPr>
          <a:xfrm>
            <a:off x="500040" y="1143000"/>
            <a:ext cx="78580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vulnerabilidad es de octubre lo que nos hace pensar que son muy pocos los usuarios que no han tenido la opción de poner al día su equipo", explica Luis Miguel Oliva de Microsoft Ibérica, quien asegura que su compañía no tiene los mecanismos para cuantificar cuántos ordenadores en España no se han instalado este parche.</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ero hasta con un Windows totalmente actualizado, las computadoras están expuestas a Conficker pues este virus se ha inspirado en la técnica de los primeros ataques informáticos y utiliza para propagarse ya no los disquetes, pero sí las memorias externas tipo USB, las que se utilizan en los teléfonos móviles, los iPods o en cualquier reproductor MP3. En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cuanto la PC infectada detecta que se ha instalado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un disco de almacenamiento externo, el virus salta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directamente al dispositivo de modo que infectará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l siguiente equipo al que vaya a ser conectado.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3" name="Picture 1" descr="C:\Documents and Settings\Familia Arias Vargas\Escritorio\dibujo_de_virus03.gif"/>
          <p:cNvPicPr/>
          <p:nvPr/>
        </p:nvPicPr>
        <p:blipFill>
          <a:blip r:embed="rId1"/>
          <a:stretch/>
        </p:blipFill>
        <p:spPr>
          <a:xfrm>
            <a:off x="6643800" y="4643280"/>
            <a:ext cx="1590480" cy="1791000"/>
          </a:xfrm>
          <a:prstGeom prst="rect">
            <a:avLst/>
          </a:prstGeom>
          <a:ln w="0">
            <a:noFill/>
          </a:ln>
          <a:effectLst>
            <a:outerShdw dist="139498" dir="2700000" blurRad="0" rotWithShape="0">
              <a:srgbClr val="333333">
                <a:alpha val="65000"/>
              </a:srgbClr>
            </a:outerShdw>
          </a:effectLst>
        </p:spPr>
      </p:pic>
      <p:sp>
        <p:nvSpPr>
          <p:cNvPr id="364" name="4 Rectángulo"/>
          <p:cNvSpPr/>
          <p:nvPr/>
        </p:nvSpPr>
        <p:spPr>
          <a:xfrm>
            <a:off x="2643120" y="214200"/>
            <a:ext cx="614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1 Rectángulo"/>
          <p:cNvSpPr/>
          <p:nvPr/>
        </p:nvSpPr>
        <p:spPr>
          <a:xfrm>
            <a:off x="571680" y="1214280"/>
            <a:ext cx="771516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Ésta puede ser la vía más problemática pues las empresas no pueden controlar todos los dispositivos USB que se conectan en su organización de una manera centralizada", observa Luis Corrons, director técnico de PandaLabs, quien dio la alerta naranja ayer para advertir sobre el también llamado Downadup.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tercera vía de infección son los archivos compartidos que las compañías suelen tener en sus redes. El virus detecta estos archivos comunes a distintos departamentos, se instala en ellos e infecta a cualquier equipo que entre en estos documento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 estos últimos casos la solución pasa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or contar con un antivirus, y ademá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antenerlo actualizado contra los nuevo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rogramas maliciosos que las compañía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de seguridad detectan cada día. </a:t>
            </a:r>
            <a:endParaRPr b="0" lang="en-US" sz="2000" spc="-1" strike="noStrike">
              <a:solidFill>
                <a:srgbClr val="000000"/>
              </a:solidFill>
              <a:latin typeface="Century Schoolbook"/>
            </a:endParaRPr>
          </a:p>
        </p:txBody>
      </p:sp>
      <p:pic>
        <p:nvPicPr>
          <p:cNvPr id="366" name="Picture 3" descr="C:\Documents and Settings\Familia Arias Vargas\Escritorio\computer-crash.jpg"/>
          <p:cNvPicPr/>
          <p:nvPr/>
        </p:nvPicPr>
        <p:blipFill>
          <a:blip r:embed="rId1"/>
          <a:stretch/>
        </p:blipFill>
        <p:spPr>
          <a:xfrm>
            <a:off x="5643720" y="4378320"/>
            <a:ext cx="2511360" cy="1979640"/>
          </a:xfrm>
          <a:prstGeom prst="rect">
            <a:avLst/>
          </a:prstGeom>
          <a:ln w="0">
            <a:noFill/>
          </a:ln>
        </p:spPr>
      </p:pic>
      <p:sp>
        <p:nvSpPr>
          <p:cNvPr id="367" name="4 Rectángulo"/>
          <p:cNvSpPr/>
          <p:nvPr/>
        </p:nvSpPr>
        <p:spPr>
          <a:xfrm>
            <a:off x="2286000" y="214200"/>
            <a:ext cx="642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Documents and Settings\Familia Arias Vargas\Escritorio\PRE_virus.jpg_874778526.jpg"/>
          <p:cNvPicPr/>
          <p:nvPr/>
        </p:nvPicPr>
        <p:blipFill>
          <a:blip r:embed="rId1"/>
          <a:srcRect l="16639" t="7897" r="14986" b="7897"/>
          <a:stretch/>
        </p:blipFill>
        <p:spPr>
          <a:xfrm>
            <a:off x="4714920" y="4357800"/>
            <a:ext cx="2643120" cy="2286000"/>
          </a:xfrm>
          <a:prstGeom prst="rect">
            <a:avLst/>
          </a:prstGeom>
          <a:ln w="0">
            <a:noFill/>
          </a:ln>
        </p:spPr>
      </p:pic>
      <p:sp>
        <p:nvSpPr>
          <p:cNvPr id="369" name="1 Rectángulo"/>
          <p:cNvSpPr/>
          <p:nvPr/>
        </p:nvSpPr>
        <p:spPr>
          <a:xfrm>
            <a:off x="571680" y="1305000"/>
            <a:ext cx="678636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ownadup lleva circulando por Internet desde el mes de noviembre por lo que prácticamente todos los fabricantes de antivirus tienen el sistema adecuado para detectarlo y neutralizarlos sin problemas. </a:t>
            </a:r>
            <a:endParaRPr b="0" lang="en-US" sz="22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Tenemos que acostumbrarnos a actualizar nuestros programas informáticos de la misma manera que en casa realizamos revisiones de la caldera o cambiamos regularmente los discos de freno del coche”, concluye Gómez de Inteco. </a:t>
            </a:r>
            <a:endParaRPr b="0" lang="en-US" sz="2200" spc="-1" strike="noStrike">
              <a:solidFill>
                <a:srgbClr val="000000"/>
              </a:solidFill>
              <a:latin typeface="Century Schoolbook"/>
            </a:endParaRPr>
          </a:p>
        </p:txBody>
      </p:sp>
      <p:sp>
        <p:nvSpPr>
          <p:cNvPr id="370" name="3 Rectángulo"/>
          <p:cNvSpPr/>
          <p:nvPr/>
        </p:nvSpPr>
        <p:spPr>
          <a:xfrm>
            <a:off x="2286000" y="214200"/>
            <a:ext cx="642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357120" y="1729440"/>
            <a:ext cx="807264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entury Schoolbook"/>
                <a:ea typeface="Times New Roman"/>
              </a:rPr>
              <a:t>La noticia se trata de un virus muy potente que ha conseguido afectar a muchas computadoras. Es uno de los virus más dañinos que han existido, llamado Conficker o </a:t>
            </a:r>
            <a:r>
              <a:rPr b="0" lang="es-CR" sz="2000" spc="-1" strike="noStrike">
                <a:solidFill>
                  <a:srgbClr val="000000"/>
                </a:solidFill>
                <a:latin typeface="Century Schoolbook"/>
              </a:rPr>
              <a:t>Downadup. Al principio el usuario no nota el virus, solamente quizá note una cierta lentitud. El virus se propaga mediante memorias externas tipo USB, como los celulares, los ipods o algún reproductor MP3; en cuando algún dispositivo USB se conecta a la computadora el virus entra en el dispositivo USB, contaminando así a todos los equipos a los que se conecte. Este es el problema ya que en las empresas no se controlan todos los dispositivos USB que van a ser conectados por lo que se contaminan sus equipos. </a:t>
            </a:r>
            <a:endParaRPr b="0" lang="en-US" sz="2000" spc="-1" strike="noStrike">
              <a:solidFill>
                <a:srgbClr val="000000"/>
              </a:solidFill>
              <a:latin typeface="Century Schoolbook"/>
            </a:endParaRPr>
          </a:p>
        </p:txBody>
      </p:sp>
      <p:sp>
        <p:nvSpPr>
          <p:cNvPr id="372" name="Rectangle 2"/>
          <p:cNvSpPr/>
          <p:nvPr/>
        </p:nvSpPr>
        <p:spPr>
          <a:xfrm>
            <a:off x="1143000" y="6001560"/>
            <a:ext cx="57862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u="sng">
                <a:solidFill>
                  <a:srgbClr val="cc9900"/>
                </a:solidFill>
                <a:uFillTx/>
                <a:latin typeface="Arial"/>
                <a:ea typeface="Times New Roman"/>
                <a:hlinkClick r:id="rId1"/>
              </a:rPr>
              <a:t>http://www.lanacion.com.ar/nota.asp?nota_id=1092759</a:t>
            </a:r>
            <a:endParaRPr b="0" lang="en-US" sz="1800" spc="-1" strike="noStrike">
              <a:solidFill>
                <a:srgbClr val="000000"/>
              </a:solidFill>
              <a:latin typeface="Century Schoolbook"/>
            </a:endParaRPr>
          </a:p>
        </p:txBody>
      </p:sp>
      <p:sp>
        <p:nvSpPr>
          <p:cNvPr id="373" name="Rectangle 4"/>
          <p:cNvSpPr/>
          <p:nvPr/>
        </p:nvSpPr>
        <p:spPr>
          <a:xfrm>
            <a:off x="500040" y="644400"/>
            <a:ext cx="23576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3200" spc="-1" strike="noStrike">
                <a:solidFill>
                  <a:srgbClr val="6e6263"/>
                </a:solidFill>
                <a:latin typeface="Century Schoolbook"/>
                <a:ea typeface="Times New Roman"/>
              </a:rPr>
              <a:t>Resumen:</a:t>
            </a:r>
            <a:endParaRPr b="0" lang="en-US" sz="3200" spc="-1" strike="noStrike">
              <a:solidFill>
                <a:srgbClr val="000000"/>
              </a:solidFill>
              <a:latin typeface="Century Schoolbook"/>
            </a:endParaRPr>
          </a:p>
        </p:txBody>
      </p:sp>
      <p:sp>
        <p:nvSpPr>
          <p:cNvPr id="374" name="Rectangle 5"/>
          <p:cNvSpPr/>
          <p:nvPr/>
        </p:nvSpPr>
        <p:spPr>
          <a:xfrm>
            <a:off x="857160" y="5359320"/>
            <a:ext cx="1285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800" spc="-1" strike="noStrike">
                <a:solidFill>
                  <a:srgbClr val="6e6263"/>
                </a:solidFill>
                <a:latin typeface="Century Schoolbook"/>
                <a:ea typeface="Times New Roman"/>
              </a:rPr>
              <a:t>Link:</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42960" y="1357200"/>
            <a:ext cx="757224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96464"/>
                </a:solidFill>
                <a:latin typeface="Century Schoolbook"/>
              </a:rPr>
              <a:t>ALERTA A VIRUS LLAMADO CONFICKER </a:t>
            </a:r>
            <a:endParaRPr b="0" lang="en-US" sz="3000" spc="-1" strike="noStrike">
              <a:solidFill>
                <a:srgbClr val="696464"/>
              </a:solidFill>
              <a:latin typeface="Century Schoolbook"/>
            </a:endParaRPr>
          </a:p>
        </p:txBody>
      </p:sp>
      <p:sp>
        <p:nvSpPr>
          <p:cNvPr id="376" name="PlaceHolder 2"/>
          <p:cNvSpPr>
            <a:spLocks noGrp="1"/>
          </p:cNvSpPr>
          <p:nvPr>
            <p:ph type="subTitle"/>
          </p:nvPr>
        </p:nvSpPr>
        <p:spPr>
          <a:xfrm>
            <a:off x="2285640" y="4643280"/>
            <a:ext cx="3714840" cy="571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rPr>
              <a:t>Áreas de impacto:</a:t>
            </a: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7" name="3 Rectángulo"/>
          <p:cNvSpPr/>
          <p:nvPr/>
        </p:nvSpPr>
        <p:spPr>
          <a:xfrm>
            <a:off x="1143000" y="1000080"/>
            <a:ext cx="29289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e6263"/>
                </a:solidFill>
                <a:latin typeface="Century Schoolbook"/>
                <a:ea typeface="Calibri"/>
              </a:rPr>
              <a:t>Nuevo titulo:</a:t>
            </a:r>
            <a:endParaRPr b="0" lang="en-US" sz="2400" spc="-1" strike="noStrike">
              <a:solidFill>
                <a:srgbClr val="000000"/>
              </a:solidFill>
              <a:latin typeface="Century Schoolbook"/>
            </a:endParaRPr>
          </a:p>
        </p:txBody>
      </p:sp>
      <p:pic>
        <p:nvPicPr>
          <p:cNvPr id="378" name="Picture 1" descr="C:\Documents and Settings\Familia Arias Vargas\Escritorio\951366.jpg"/>
          <p:cNvPicPr/>
          <p:nvPr/>
        </p:nvPicPr>
        <p:blipFill>
          <a:blip r:embed="rId1"/>
          <a:stretch/>
        </p:blipFill>
        <p:spPr>
          <a:xfrm>
            <a:off x="4857840" y="2357280"/>
            <a:ext cx="3097080" cy="2065320"/>
          </a:xfrm>
          <a:prstGeom prst="rect">
            <a:avLst/>
          </a:prstGeom>
          <a:ln w="0">
            <a:noFill/>
          </a:ln>
        </p:spPr>
      </p:pic>
      <p:sp>
        <p:nvSpPr>
          <p:cNvPr id="379" name="Rectangle 2"/>
          <p:cNvSpPr/>
          <p:nvPr/>
        </p:nvSpPr>
        <p:spPr>
          <a:xfrm>
            <a:off x="3571920" y="5359680"/>
            <a:ext cx="46432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000000"/>
                </a:solidFill>
                <a:latin typeface="Century Schoolbook"/>
                <a:ea typeface="Times New Roman"/>
              </a:rPr>
              <a:t>Empresas y empleo</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1071720" y="787320"/>
            <a:ext cx="5072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ea typeface="Calibri"/>
              </a:rPr>
              <a:t>Cuestión ética y social:</a:t>
            </a:r>
            <a:endParaRPr b="0" lang="en-US" sz="2800" spc="-1" strike="noStrike">
              <a:solidFill>
                <a:srgbClr val="000000"/>
              </a:solidFill>
              <a:latin typeface="Century Schoolbook"/>
            </a:endParaRPr>
          </a:p>
        </p:txBody>
      </p:sp>
      <p:sp>
        <p:nvSpPr>
          <p:cNvPr id="381" name="Rectangle 1"/>
          <p:cNvSpPr/>
          <p:nvPr/>
        </p:nvSpPr>
        <p:spPr>
          <a:xfrm>
            <a:off x="2357280" y="1933920"/>
            <a:ext cx="3500640" cy="1373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Privacidad</a:t>
            </a:r>
            <a:endParaRPr b="0" lang="en-US" sz="2800" spc="-1" strike="noStrike">
              <a:solidFill>
                <a:srgbClr val="000000"/>
              </a:solidFill>
              <a:latin typeface="Century School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Confiabilidad</a:t>
            </a:r>
            <a:endParaRPr b="0" lang="en-US" sz="2800" spc="-1" strike="noStrike">
              <a:solidFill>
                <a:srgbClr val="000000"/>
              </a:solidFill>
              <a:latin typeface="Century School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Seguridad</a:t>
            </a:r>
            <a:endParaRPr b="0" lang="en-US" sz="2800" spc="-1" strike="noStrike">
              <a:solidFill>
                <a:srgbClr val="000000"/>
              </a:solidFill>
              <a:latin typeface="Century Schoolbook"/>
            </a:endParaRPr>
          </a:p>
        </p:txBody>
      </p:sp>
      <p:sp>
        <p:nvSpPr>
          <p:cNvPr id="382" name="Rectangle 2"/>
          <p:cNvSpPr/>
          <p:nvPr/>
        </p:nvSpPr>
        <p:spPr>
          <a:xfrm>
            <a:off x="1000080" y="3932280"/>
            <a:ext cx="7215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ea typeface="Times New Roman"/>
              </a:rPr>
              <a:t>Tecnología de la Información en el contexto social:</a:t>
            </a:r>
            <a:endParaRPr b="0" lang="en-US" sz="2800" spc="-1" strike="noStrike">
              <a:solidFill>
                <a:srgbClr val="000000"/>
              </a:solidFill>
              <a:latin typeface="Century Schoolbook"/>
            </a:endParaRPr>
          </a:p>
        </p:txBody>
      </p:sp>
      <p:sp>
        <p:nvSpPr>
          <p:cNvPr id="383" name="Rectangle 3"/>
          <p:cNvSpPr/>
          <p:nvPr/>
        </p:nvSpPr>
        <p:spPr>
          <a:xfrm>
            <a:off x="428760" y="5359320"/>
            <a:ext cx="600048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entury Schoolbook"/>
                <a:ea typeface="Times New Roman"/>
              </a:rPr>
              <a:t>Software: Bases de datos</a:t>
            </a:r>
            <a:endParaRPr b="0" lang="en-US" sz="3200" spc="-1" strike="noStrike">
              <a:solidFill>
                <a:srgbClr val="000000"/>
              </a:solidFill>
              <a:latin typeface="Century Schoolbook"/>
            </a:endParaRPr>
          </a:p>
        </p:txBody>
      </p:sp>
      <p:pic>
        <p:nvPicPr>
          <p:cNvPr id="384" name="Picture 4" descr="C:\Documents and Settings\Familia Arias Vargas\Escritorio\phpThumb_generated_thumbnailjpg.jpg"/>
          <p:cNvPicPr/>
          <p:nvPr/>
        </p:nvPicPr>
        <p:blipFill>
          <a:blip r:embed="rId1"/>
          <a:stretch/>
        </p:blipFill>
        <p:spPr>
          <a:xfrm>
            <a:off x="5643720" y="1285920"/>
            <a:ext cx="1928520" cy="197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8:20:00Z</dcterms:created>
  <dc:creator>Familia Arias Vargas</dc:creator>
  <dc:description/>
  <dc:language>en-US</dc:language>
  <cp:lastModifiedBy>Familia Arias Vargas</cp:lastModifiedBy>
  <dcterms:modified xsi:type="dcterms:W3CDTF">2009-03-02T03:45:18Z</dcterms:modified>
  <cp:revision>44</cp:revision>
  <dc:subject/>
  <dc:title>Trabajo de TISG </dc:title>
</cp:coreProperties>
</file>